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2229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0560"/>
            <a:ext cx="939960" cy="5727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217000" y="609480"/>
            <a:ext cx="927000" cy="572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3733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Building links world wide among oceanographic institutions to promote long-term co-operation in comprehensive global-ocean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OGOlogo_blue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810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19320" y="533520"/>
          <a:ext cx="7143480" cy="56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714348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609480"/>
            <a:ext cx="75438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ajor Data Issues in Ocean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ot all data collected in oceanographic institutions are stored in electronic datab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echanisms are not in place everywhere to facilitate timely dissemination of data to the user communit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xchange of data between oceanographic institutions is not always eas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here is insufficient awareness of efforts currently underway, to address issues related to management and dissemination of dat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anagement and distribution of data on non-physical variables and descriptive information are particularly challeng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Actions to Address Data Issu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. POGO Secretariat queried participating institutions on their data management practices and conce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2. Took a specific case (CTD/XBT data) to see if POGO could do anything to improve  distribution in real time and in delayed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4. Dr. Neville Smith reported at POGO 4 on parallel, ongoing efforts in other organis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5. Dr. Roy Lowry recommended possible actions that could be taken in the area of non-physical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90720" y="533520"/>
          <a:ext cx="7200720" cy="802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200720" cy="802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43000" y="819000"/>
          <a:ext cx="6095880" cy="720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19000"/>
                    <a:ext cx="609588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867280" y="990720"/>
            <a:ext cx="2438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Members of TS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Philip Boy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Ed Bo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Francisco Chav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Tom Dic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Dave Ka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Anthony Kn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Yoshihumi Kuroda, t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Richard Lampit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Joao Lorenzetti, t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Roger Luk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Mike McPha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Liliane Merliv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Rodrigo Nun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John Orcut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Svein Osterh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Oscar Pizar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Uwe 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Bronte Tilbr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Bob Well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838080"/>
            <a:ext cx="7315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ime Series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irst meeting: May 2001, Woods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econd meeting: February 2002, Waik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hird Meeting: April 2003, Villefranche-sur-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OGO has helped to set up a Time Series Web Site: oceantimeserie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nd also helps with designing a Time Series Broch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74280" y="793800"/>
            <a:ext cx="1929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ap_world_060601" descr=""/>
          <p:cNvPicPr/>
          <p:nvPr/>
        </p:nvPicPr>
        <p:blipFill>
          <a:blip r:embed="rId1"/>
          <a:stretch/>
        </p:blipFill>
        <p:spPr>
          <a:xfrm>
            <a:off x="271440" y="1371600"/>
            <a:ext cx="8656560" cy="485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3240" y="360360"/>
            <a:ext cx="7233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itial map of the pilot timeseries observatory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23920" y="1657440"/>
          <a:ext cx="6953400" cy="40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657440"/>
                    <a:ext cx="6953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1219320"/>
            <a:ext cx="70866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ão Paulo declaration was used by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iversity of Concepc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ón (Chile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to justify why Chile was uniquely positioned to make valuable and unique contribution to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MSTEC (Japan) to justify a circumpolar cruise of their research vessel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Mirai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n the Southern Hemi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IOZ (the Netherlands) to justify a project for three long-term time-series stations (two in the Indian Oce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OML to initiate a new XBT line from Cape Town to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2362320"/>
            <a:ext cx="70866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ablishment of Chilean National Cent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cellence in Ocean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hilean Oceanographers were able to use São Paulo Declaration to justify why Chile was ideally positioned to make valuable and unique contribution to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838080"/>
            <a:ext cx="617220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Albertus Medium"/>
              </a:rPr>
              <a:t>The Need for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he partnership exist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romote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mprove scientific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erpret scientific results to 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Enhance public awareness of ocean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rovide training and technology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1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5943600"/>
            <a:ext cx="7400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round the ‘world’:From Brisbane (16 August 2003) to Freemantle (9 January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Kerguelen leg:From Freemantle (13 January 2004) to Freemantle (6 February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6400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MSTEC Response to São Paulo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1295280"/>
            <a:ext cx="701028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GO-IOCCG Schola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for Training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JAMSTEC cruise BE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in Southern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lan to train 15 to 18 oceanographers, primarily from the Southern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o-sponsor: I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ubject: Basic Bio-optical measurements; also geochemistry, geology and physical ocean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90720" y="609480"/>
          <a:ext cx="7353360" cy="697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353360" cy="697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83808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ction 1 from Biology Repo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 Biodiversity Workshop in South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OGO and CoML jointly organise a workshop in Concepción, Chil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BIODIVERSITY IN THE OCEANS AROUND SOUTH AMERICA: THE KNOWN AND THE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Organising Committe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ictor Ariel Gallardo (Chai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on O’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hubha Sathyendran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ates: 28 - 31 October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609480"/>
            <a:ext cx="701028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ction 2 from Biology Repo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 Long-term Observational Programme in Suppor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hytoplankton Dynamics, Primary Production and Carb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POGO can make a significant contribution to the study of the ocean carbon cycle by co-ordinating an effort to collect global, in situ data on a few key variables.  These would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Chlorophyll-a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pCO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NO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These should be measured along with the following physical vari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C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609480"/>
            <a:ext cx="701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mplementation of Action Ite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The Report recommended that POGO me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Make a commitment to making these measurements at all stations during research cru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Participate in the development and deployment of a few free-floating, Argo-type biological flo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Extend VOS contributions to these measu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pproach other international programmes such as CLIVAR to include these measurements in all their cru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pproach space agencies (jointly with the IOCCG) to ensure continued, reliable, long-term, stream of ocean-colour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Form a working group to oversee and co-ordinate these activ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609480"/>
            <a:ext cx="7010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ction 2 from Biology Repo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hytoplankton Dynamics, Primary Production and Carbon Cycle in the Southern Hemi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During the Beagle cruise of </a:t>
            </a:r>
            <a:r>
              <a:rPr b="1" i="1" lang="en-GB" sz="1800" spc="-1" strike="noStrike">
                <a:solidFill>
                  <a:srgbClr val="006600"/>
                </a:solidFill>
                <a:latin typeface="Arial"/>
              </a:rPr>
              <a:t>R/V Mirai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(JAMSTEC) scientists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n to make chlorophyll, photosynthesis-irradiance, flow-cytometry, HPLC pigments and optical measurements along all legs of the cru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sults will be linked to interpretation of ocean-colour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20560"/>
            <a:ext cx="939960" cy="572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217000" y="380880"/>
            <a:ext cx="927000" cy="5727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685800"/>
            <a:ext cx="716256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OGO-IOC-SCOR WSSD Type 2 Initiative for Intelligent Use and Management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Expected date of initiation: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Expected date of completion: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20560"/>
            <a:ext cx="939960" cy="572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17000" y="380880"/>
            <a:ext cx="927000" cy="572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685800"/>
            <a:ext cx="716256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Main objectives of the Partnership/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To promote intelligent and sustainable use and management of the ocean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motion of collaboration and co-ordination among major oceanographic institutions committed to ocean sci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evelopment of capacity in the weaker countries for using and managing their ocean space under UNCL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dvocacy for sound use and management of the oc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20560"/>
            <a:ext cx="939960" cy="5727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217000" y="380880"/>
            <a:ext cx="927000" cy="572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1523880"/>
            <a:ext cx="7162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nticipated results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nhanced capacity to monitor and manage the ocea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mproved capability in developing countries to participate as equal partners in the world arena in addressing ocean-related issu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evelopment of observational elements to promote intelligent use of the oc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80880"/>
            <a:ext cx="7086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Arial"/>
              </a:rPr>
              <a:t>Brief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Exploratory Meeting: Paris 8-10 March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Recognised the importance of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GOD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Ar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Time-Series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Hydrographic and biogeochemical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First Meeting of POGO: San Diego, 1-3 December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Action it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Promote Argo and Time-Series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Initiated data exchange pilot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Education, Training and 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Promote Outr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Second Meeting</a:t>
            </a: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São Paulo, Brazil, 29 Nov - 1 Dec.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Third Meeting: White Point, NS, Canada, 27 - 29 Nov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Fourth Meeting: Hobart, Tasmania, Australia, 22 – 24 Jan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9144000" cy="6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520560"/>
            <a:ext cx="939960" cy="572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217000" y="380880"/>
            <a:ext cx="927000" cy="572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0720" y="685800"/>
            <a:ext cx="71625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pecific targets of the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blishment of Fellowship/Exchange programmes for ocean observations: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oviding training opportunities to oceanographers to enhance capability for ocean observation and management: 2002 –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Targetted efforts to enhance capabilities of the Southern Hemisphere countries: 2002 -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Targetted efforts to enhance capabilities of countries around the Indian Ocean: 2004 –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GB" sz="4400" spc="-1" strike="noStrike">
                <a:solidFill>
                  <a:srgbClr val="006600"/>
                </a:solidFill>
                <a:latin typeface="Times New Roman"/>
              </a:rPr>
              <a:t>POGO</a:t>
            </a:r>
            <a:r>
              <a:rPr b="1" lang="en-GB" sz="4400" spc="-1" strike="noStrike">
                <a:solidFill>
                  <a:srgbClr val="006600"/>
                </a:solidFill>
                <a:latin typeface="Times New Roman"/>
              </a:rPr>
              <a:t> 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Registered as a not-for profit Society under the Societies Act of Nova Sco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52280"/>
            <a:ext cx="6858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Bedford Institute of Oceanography (Can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French Consortium Consist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IFREMER (Institut Français de Recherche pour l’Exploitation de la M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INSU (L’Institut National des Sciences de l’Univers du CN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Japan Marine Science and Technology Center (JAMSTEC) (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Netherlands Institute of Sea Research (Hol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Scripps Institution of Oceanography (US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P.P. Shirshov Institute of Oceanology (Ru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UK Consortium Consist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Southampton Oceanography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Plymouth Marine Sciences Part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Proudman Oceanographic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Universidad de São Paulo (Braz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Woods Hole Oceanographic Institution (US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Bermuda Biological Research Station, Berm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hilean Consortium Consist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SHOA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(Servicio Hidrográfico y Oceanográfico de la A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Universidad de Con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Commonwealth Scientific &amp; Industrial Research Organisation (CSIRO)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Dalhousi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German Consortium consisting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Alfred-Wegener-Institute, Bremerha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Institut of Marine Research, K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8000"/>
                </a:solidFill>
                <a:latin typeface="Arial"/>
              </a:rPr>
              <a:t>Research Center for Marine Geosciences (GEOMAR), K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National Institute of Oceanography (Ind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National Oceanic and Atmospheric Administration (NOAA HQ, AOML, PM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Institute for Marine Research (Norw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720" y="114480"/>
            <a:ext cx="69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39240" y="190440"/>
            <a:ext cx="38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2960" y="571680"/>
          <a:ext cx="65152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71680"/>
                    <a:ext cx="6515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609480"/>
          <a:ext cx="72392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239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257480" y="1314360"/>
          <a:ext cx="65530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314360"/>
                    <a:ext cx="6553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19320" y="609480"/>
          <a:ext cx="651492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651492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116208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GO’s Perspecitve: Global i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GO’s Goal: Global in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hancement of involvement of developing countries is part of the overall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90720" y="990720"/>
          <a:ext cx="7353360" cy="51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353360" cy="51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90720" y="762120"/>
          <a:ext cx="723888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2388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685800"/>
            <a:ext cx="70102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POGO-IOC-SCOR Fellowship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Initiated in 2001.  Supports visits to oceanographic laboratories (maximum 3 months) for training. Details on POGO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Funding support from IOC and SC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Fellowships award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13 in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13 in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will award 7 in 2003 (may be more, if funding avail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Programme is expected to continue in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685800"/>
          <a:ext cx="7124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24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4400" y="609480"/>
          <a:ext cx="7277040" cy="744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277040" cy="744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5:30:31Z</dcterms:created>
  <dc:creator>Sathyendranath</dc:creator>
  <dc:description/>
  <dc:language>en-US</dc:language>
  <cp:lastModifiedBy>Valued Sony Customer</cp:lastModifiedBy>
  <cp:lastPrinted>2001-05-28T16:33:39Z</cp:lastPrinted>
  <dcterms:modified xsi:type="dcterms:W3CDTF">2003-06-03T12:06:10Z</dcterms:modified>
  <cp:revision>73</cp:revision>
  <dc:subject/>
  <dc:title>No Slide Title</dc:title>
</cp:coreProperties>
</file>