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6.png" ContentType="image/png"/>
  <Override PartName="/ppt/media/image14.png" ContentType="image/png"/>
  <Override PartName="/ppt/media/image25.jpeg" ContentType="image/jpeg"/>
  <Override PartName="/ppt/media/image2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24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A2CA-9C4C-4A45-B192-5FE1E5DB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2FD6-25DF-4C99-BB08-3B795947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7974-8AE5-4BF5-87D8-E6D3BBAF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83AC-E911-4DB0-8945-89DC4A91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7DEC-B630-4177-8086-9F7DC12E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7837-5703-4F30-BF57-80A9D02F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072C-AE48-4685-ADCB-C726FC39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1F23-7AE7-4652-8DE2-A0060B37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A097-A245-487E-996A-108B043B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A0A6-851D-45F7-93DD-0428E942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0D5F-403D-45C6-9721-2170E24F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A52D-A6AD-4967-A97A-C1AC8595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C5CC-758B-47DC-AC03-D24517C4F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17840" y="6384960"/>
            <a:ext cx="3886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66"/>
                </a:solidFill>
                <a:latin typeface="Arial"/>
              </a:rPr>
              <a:t>37</a:t>
            </a:r>
            <a:r>
              <a:rPr b="0" lang="en-GB" sz="13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0" lang="en-GB" sz="1300" spc="-1" strike="noStrike">
                <a:solidFill>
                  <a:srgbClr val="000066"/>
                </a:solidFill>
                <a:latin typeface="Arial"/>
              </a:rPr>
              <a:t> CIESM Congress, 6</a:t>
            </a:r>
            <a:r>
              <a:rPr b="0" lang="en-GB" sz="13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0" lang="en-GB" sz="1300" spc="-1" strike="noStrike">
                <a:solidFill>
                  <a:srgbClr val="000066"/>
                </a:solidFill>
                <a:latin typeface="Arial"/>
              </a:rPr>
              <a:t> - 12</a:t>
            </a:r>
            <a:r>
              <a:rPr b="0" lang="en-GB" sz="13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0" lang="en-GB" sz="1300" spc="-1" strike="noStrike">
                <a:solidFill>
                  <a:srgbClr val="000066"/>
                </a:solidFill>
                <a:latin typeface="Arial"/>
              </a:rPr>
              <a:t> June - Barcelo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ciesmtransp" descr=""/>
          <p:cNvPicPr/>
          <p:nvPr/>
        </p:nvPicPr>
        <p:blipFill>
          <a:blip r:embed="rId2"/>
          <a:stretch/>
        </p:blipFill>
        <p:spPr>
          <a:xfrm>
            <a:off x="8077320" y="6149880"/>
            <a:ext cx="1066680" cy="708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3429000"/>
            <a:ext cx="9144000" cy="34527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3160" y="1905120"/>
            <a:ext cx="7848360" cy="143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333399"/>
                </a:solidFill>
                <a:latin typeface="Comic Sans MS"/>
              </a:rPr>
              <a:t>M</a:t>
            </a:r>
            <a:r>
              <a:rPr b="1" lang="en-GB" sz="3200" spc="-1" strike="noStrike">
                <a:solidFill>
                  <a:srgbClr val="000066"/>
                </a:solidFill>
                <a:latin typeface="Comic Sans MS"/>
              </a:rPr>
              <a:t>editerranean</a:t>
            </a:r>
            <a:r>
              <a:rPr b="1" lang="en-GB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Comic Sans MS"/>
              </a:rPr>
              <a:t>network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Comic Sans MS"/>
              </a:rPr>
              <a:t>to</a:t>
            </a:r>
            <a:r>
              <a:rPr b="1" lang="en-GB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99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66"/>
                </a:solidFill>
                <a:latin typeface="Comic Sans MS"/>
              </a:rPr>
              <a:t>ssess</a:t>
            </a:r>
            <a:r>
              <a:rPr b="1" lang="en-GB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Comic Sans MS"/>
              </a:rPr>
              <a:t>and 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Comic Sans MS"/>
              </a:rPr>
              <a:t>upgrade the</a:t>
            </a:r>
            <a:r>
              <a:rPr b="1" lang="en-GB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99"/>
                </a:solidFill>
                <a:latin typeface="Comic Sans MS"/>
              </a:rPr>
              <a:t>M</a:t>
            </a:r>
            <a:r>
              <a:rPr b="1" lang="en-GB" sz="3200" spc="-1" strike="noStrike">
                <a:solidFill>
                  <a:srgbClr val="000066"/>
                </a:solidFill>
                <a:latin typeface="Comic Sans MS"/>
              </a:rPr>
              <a:t>onitoring</a:t>
            </a:r>
            <a:r>
              <a:rPr b="1" lang="en-GB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Comic Sans MS"/>
              </a:rPr>
              <a:t>and forecasting</a:t>
            </a:r>
            <a:r>
              <a:rPr b="1" lang="en-GB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99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66"/>
                </a:solidFill>
                <a:latin typeface="Comic Sans MS"/>
              </a:rPr>
              <a:t>ctivity</a:t>
            </a:r>
            <a:r>
              <a:rPr b="1" lang="en-GB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Comic Sans MS"/>
              </a:rPr>
              <a:t>in the basi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thematic network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, EU Programme Environment &amp; Sustainab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31 partners,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all Mediterranean Countries &amp; International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duration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2002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33520" y="3276720"/>
            <a:ext cx="8001000" cy="155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6320" y="76320"/>
            <a:ext cx="705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66"/>
                </a:solidFill>
                <a:latin typeface="Verdana"/>
              </a:rPr>
              <a:t>MedGOOS</a:t>
            </a:r>
            <a:br>
              <a:rPr sz="2800"/>
            </a:br>
            <a:r>
              <a:rPr b="1" i="1" lang="en-GB" sz="1900" spc="-1" strike="noStrike">
                <a:solidFill>
                  <a:srgbClr val="ffcc66"/>
                </a:solidFill>
                <a:latin typeface="Verdana"/>
              </a:rPr>
              <a:t>GOOS Regional Alliance for the Mediterran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412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Comic Sans MS"/>
              </a:rPr>
              <a:t>MAMA</a:t>
            </a:r>
            <a:br>
              <a:rPr sz="4000"/>
            </a:br>
            <a:r>
              <a:rPr b="1" lang="en-GB" sz="4000" spc="-1" strike="noStrike">
                <a:solidFill>
                  <a:srgbClr val="000066"/>
                </a:solidFill>
                <a:latin typeface="Comic Sans MS"/>
              </a:rPr>
              <a:t> A Contribution to GO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320040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MAM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project of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MedGOOS….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lving a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gional partnersh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s based on the science plan of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EuroGOOS…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llows the MedGOOS strategy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…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achievements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projects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MFSP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MEDAR/MEDATLAS…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builds on current RTD projects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pre-operational activities at regional and national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9640" y="2755800"/>
            <a:ext cx="8001000" cy="155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6320" y="76320"/>
            <a:ext cx="705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66"/>
                </a:solidFill>
                <a:latin typeface="Verdana"/>
              </a:rPr>
              <a:t>MedGOOS</a:t>
            </a:r>
            <a:br>
              <a:rPr sz="2800"/>
            </a:br>
            <a:r>
              <a:rPr b="1" i="1" lang="en-GB" sz="1900" spc="-1" strike="noStrike">
                <a:solidFill>
                  <a:srgbClr val="ffcc66"/>
                </a:solidFill>
                <a:latin typeface="Verdana"/>
              </a:rPr>
              <a:t>GOOS Regional Alliance for the Mediterran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638680" y="2361960"/>
            <a:ext cx="3276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Five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pillars of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M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-305280" y="1215720"/>
            <a:ext cx="8001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 3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 the present sit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identify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 3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the regional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 3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grading of capa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 3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 3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the initial observ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320" y="76320"/>
            <a:ext cx="705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Verdana"/>
              </a:rPr>
              <a:t>MedGOOS</a:t>
            </a:r>
            <a:br>
              <a:rPr sz="2800"/>
            </a:br>
            <a:r>
              <a:rPr b="1" i="1" lang="en-GB" sz="1900" spc="-1" strike="noStrike">
                <a:solidFill>
                  <a:srgbClr val="ffcc00"/>
                </a:solidFill>
                <a:latin typeface="Verdana"/>
              </a:rPr>
              <a:t>GOOS Regional Alliance for the Mediterran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UTurnArrow"/>
          <p:cNvSpPr/>
          <p:nvPr/>
        </p:nvSpPr>
        <p:spPr>
          <a:xfrm rot="10800000">
            <a:off x="1599840" y="3962160"/>
            <a:ext cx="6553080" cy="2514600"/>
          </a:xfrm>
          <a:custGeom>
            <a:avLst/>
            <a:gdLst>
              <a:gd name="textAreaLeft" fmla="*/ 0 w 6553080"/>
              <a:gd name="textAreaRight" fmla="*/ 1690920 w 6553080"/>
              <a:gd name="textAreaTop" fmla="*/ 96732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131112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Black"/>
              </a:rPr>
              <a:t>Network of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marine </a:t>
            </a:r>
            <a:r>
              <a:rPr b="1" lang="en-GB" sz="2400" spc="-1" strike="noStrike">
                <a:solidFill>
                  <a:srgbClr val="333399"/>
                </a:solidFill>
                <a:latin typeface="Arial Black"/>
              </a:rPr>
              <a:t>institutions from all the Mediterrane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71640" y="-28440"/>
            <a:ext cx="7200720" cy="6913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 rot="20791800">
            <a:off x="1433160" y="2825280"/>
            <a:ext cx="6545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ff505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ww.mama-net.org</a:t>
            </a:r>
            <a:endParaRPr b="0" i="1" lang="en-US" sz="1800" spc="1" strike="noStrike">
              <a:ln w="28440">
                <a:solidFill>
                  <a:srgbClr val="ff505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6840" y="1066320"/>
            <a:ext cx="3962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P1 - Interface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9640" y="1825560"/>
            <a:ext cx="8001000" cy="155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320" y="76320"/>
            <a:ext cx="705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66"/>
                </a:solidFill>
                <a:latin typeface="Verdana"/>
              </a:rPr>
              <a:t>MedGOOS</a:t>
            </a:r>
            <a:br>
              <a:rPr sz="2800"/>
            </a:br>
            <a:r>
              <a:rPr b="1" i="1" lang="en-GB" sz="1900" spc="-1" strike="noStrike">
                <a:solidFill>
                  <a:srgbClr val="ffcc66"/>
                </a:solidFill>
                <a:latin typeface="Verdana"/>
              </a:rPr>
              <a:t>GOOS Regional Alliance for the Mediterran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Map%203%20_%20General%20(Buoys)_restrict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staff1" descr=""/>
          <p:cNvPicPr/>
          <p:nvPr/>
        </p:nvPicPr>
        <p:blipFill>
          <a:blip r:embed="rId2"/>
          <a:stretch/>
        </p:blipFill>
        <p:spPr>
          <a:xfrm>
            <a:off x="457200" y="2111400"/>
            <a:ext cx="3809880" cy="258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76320" y="1066320"/>
            <a:ext cx="5943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MAMA WP1 Results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04920" y="1905120"/>
            <a:ext cx="8001000" cy="155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6320" y="76320"/>
            <a:ext cx="705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66"/>
                </a:solidFill>
                <a:latin typeface="Verdana"/>
              </a:rPr>
              <a:t>MedGOOS</a:t>
            </a:r>
            <a:br>
              <a:rPr sz="2800"/>
            </a:br>
            <a:r>
              <a:rPr b="1" i="1" lang="en-GB" sz="1900" spc="-1" strike="noStrike">
                <a:solidFill>
                  <a:srgbClr val="ffcc66"/>
                </a:solidFill>
                <a:latin typeface="Verdana"/>
              </a:rPr>
              <a:t>GOOS Regional Alliance for the Mediterran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486400" y="2090880"/>
            <a:ext cx="3048120" cy="21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809880" y="3962520"/>
            <a:ext cx="259092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324480" y="4800600"/>
            <a:ext cx="27432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0" name="param1" descr=""/>
          <p:cNvPicPr/>
          <p:nvPr/>
        </p:nvPicPr>
        <p:blipFill>
          <a:blip r:embed="rId7"/>
          <a:stretch/>
        </p:blipFill>
        <p:spPr>
          <a:xfrm>
            <a:off x="76320" y="4311720"/>
            <a:ext cx="3657600" cy="239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42920" y="1992240"/>
            <a:ext cx="7380360" cy="4103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6320" y="76320"/>
            <a:ext cx="705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66"/>
                </a:solidFill>
                <a:latin typeface="Verdana"/>
              </a:rPr>
              <a:t>MedGOOS</a:t>
            </a:r>
            <a:br>
              <a:rPr sz="2800"/>
            </a:br>
            <a:r>
              <a:rPr b="1" i="1" lang="en-GB" sz="1900" spc="-1" strike="noStrike">
                <a:solidFill>
                  <a:srgbClr val="ffcc66"/>
                </a:solidFill>
                <a:latin typeface="Verdana"/>
              </a:rPr>
              <a:t>GOOS Regional Alliance for the Mediterran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3578400"/>
            <a:ext cx="8001000" cy="155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14400" y="1292400"/>
            <a:ext cx="73152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Building a strong regional partnership for operational oceanography i</a:t>
            </a:r>
            <a:r>
              <a:rPr b="1" lang="en-GB" sz="3600" spc="-1" strike="noStrike">
                <a:solidFill>
                  <a:srgbClr val="000066"/>
                </a:solidFill>
                <a:latin typeface="Comic Sans MS"/>
              </a:rPr>
              <a:t>n the Mediterran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590920" y="3962160"/>
            <a:ext cx="4114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do Drago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dGOOS Executive Secre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MA Asst. Coord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OI – Malta Operational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iversity of Malta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MA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aldo.drago@um.edu.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l/Fax : +356 21440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76320"/>
            <a:ext cx="705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Verdana"/>
              </a:rPr>
              <a:t>MedGOOS</a:t>
            </a:r>
            <a:br>
              <a:rPr sz="2800"/>
            </a:br>
            <a:r>
              <a:rPr b="1" i="1" lang="en-GB" sz="1900" spc="-1" strike="noStrike">
                <a:solidFill>
                  <a:srgbClr val="ffcc00"/>
                </a:solidFill>
                <a:latin typeface="Verdana"/>
              </a:rPr>
              <a:t>GOOS Regional Alliance for the Mediterran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012680" y="1868400"/>
            <a:ext cx="3343320" cy="4608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656240" y="1865160"/>
            <a:ext cx="3228840" cy="46119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6320" y="76320"/>
            <a:ext cx="705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66"/>
                </a:solidFill>
                <a:latin typeface="Verdana"/>
              </a:rPr>
              <a:t>MedGOOS</a:t>
            </a:r>
            <a:br>
              <a:rPr sz="2800"/>
            </a:br>
            <a:r>
              <a:rPr b="1" i="1" lang="en-GB" sz="1900" spc="-1" strike="noStrike">
                <a:solidFill>
                  <a:srgbClr val="ffcc66"/>
                </a:solidFill>
                <a:latin typeface="Verdana"/>
              </a:rPr>
              <a:t>GOOS Regional Alliance for the Mediterran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chair1"/>
          <p:cNvSpPr/>
          <p:nvPr/>
        </p:nvSpPr>
        <p:spPr>
          <a:xfrm>
            <a:off x="762120" y="4648320"/>
            <a:ext cx="6858000" cy="16761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4840" y="50860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Overall MAMA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14040" y="1143000"/>
            <a:ext cx="9448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buClr>
                <a:srgbClr val="009999"/>
              </a:buClr>
              <a:buSzPct val="150000"/>
              <a:buFont typeface="Arial Unicode MS"/>
              <a:buChar char="⑉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Specialised rep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buClr>
                <a:srgbClr val="009999"/>
              </a:buClr>
              <a:buSzPct val="150000"/>
              <a:buFont typeface="Arial Unicode MS"/>
              <a:buChar char="⑉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Contribution to GM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buClr>
                <a:srgbClr val="009999"/>
              </a:buClr>
              <a:buSzPct val="150000"/>
              <a:buFont typeface="Arial Unicode MS"/>
              <a:buChar char="⑉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Guidance to Mediterranean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buClr>
                <a:srgbClr val="009999"/>
              </a:buClr>
              <a:buSzPct val="150000"/>
              <a:buFont typeface="Arial Unicode MS"/>
              <a:buChar char="⑉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Basis and framework for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7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future developments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         </a:t>
            </a: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buClr>
                <a:srgbClr val="009999"/>
              </a:buClr>
              <a:buSzPct val="150000"/>
              <a:buFont typeface="Arial Unicode MS"/>
              <a:buChar char="⑉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First approach to end-us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7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and stakehol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buClr>
                <a:srgbClr val="009999"/>
              </a:buClr>
              <a:buSzPct val="150000"/>
              <a:buFont typeface="Arial Unicode MS"/>
              <a:buChar char="⑉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An example to other G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76320"/>
            <a:ext cx="705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66"/>
                </a:solidFill>
                <a:latin typeface="Verdana"/>
              </a:rPr>
              <a:t>MedGOOS</a:t>
            </a:r>
            <a:br>
              <a:rPr sz="2800"/>
            </a:br>
            <a:r>
              <a:rPr b="1" i="1" lang="en-GB" sz="1900" spc="-1" strike="noStrike">
                <a:solidFill>
                  <a:srgbClr val="ffcc66"/>
                </a:solidFill>
                <a:latin typeface="Verdana"/>
              </a:rPr>
              <a:t>GOOS Regional Alliance for the Mediterran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9640" y="1905120"/>
            <a:ext cx="8001000" cy="155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-9360" y="2057400"/>
            <a:ext cx="9181800" cy="4419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533520" y="990360"/>
            <a:ext cx="7315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Comic Sans MS"/>
              </a:rPr>
              <a:t>M</a:t>
            </a: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edGOOS capital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6320" y="2437920"/>
            <a:ext cx="9036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FSTEP to advance monitoring technologies: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OS, moored buoys, satellite data, glider, MedARGO, O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GLOSS sea-level 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eek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SEI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anish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DRICO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.. other automated platforms for real-time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320" y="76320"/>
            <a:ext cx="705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66"/>
                </a:solidFill>
                <a:latin typeface="Verdana"/>
              </a:rPr>
              <a:t>MedGOOS</a:t>
            </a:r>
            <a:br>
              <a:rPr sz="2800"/>
            </a:br>
            <a:r>
              <a:rPr b="1" i="1" lang="en-GB" sz="1900" spc="-1" strike="noStrike">
                <a:solidFill>
                  <a:srgbClr val="ffcc66"/>
                </a:solidFill>
                <a:latin typeface="Verdana"/>
              </a:rPr>
              <a:t>GOOS Regional Alliance for the Mediterran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207324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Black"/>
              </a:rPr>
              <a:t>Several international and national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1a2f96"/>
                </a:solidFill>
                <a:latin typeface="Arial"/>
              </a:rPr>
              <a:t>GRAND - GOOS Regional Alliances Networking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514600" y="2971800"/>
            <a:ext cx="3809880" cy="1876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0880" y="5105520"/>
            <a:ext cx="830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 two-year project funded under the FP6, Sub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Priority VI Operational forecasting and modelling including global climatic change observation systems", of the EU.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304920"/>
            <a:ext cx="853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6600"/>
                </a:solidFill>
                <a:latin typeface="Arial"/>
              </a:rPr>
              <a:t>International projects coordinated by MedGO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281916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GRAND networks all the GRAs to disseminate best practice, share knowledge, transfer technology, build capacity,  and experiences to implement effective and efficient observing and forecasting systems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or public good and for a variety of end-users…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apitalising on the European scientific, technological and organisational cap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9640" y="5940360"/>
            <a:ext cx="93672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- M Galea De Giovanni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320" y="76320"/>
            <a:ext cx="705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Verdana"/>
              </a:rPr>
              <a:t>MedGOOS</a:t>
            </a:r>
            <a:br>
              <a:rPr sz="2800"/>
            </a:br>
            <a:r>
              <a:rPr b="1" i="1" lang="en-GB" sz="1900" spc="-1" strike="noStrike">
                <a:solidFill>
                  <a:srgbClr val="ffcc00"/>
                </a:solidFill>
                <a:latin typeface="Verdana"/>
              </a:rPr>
              <a:t>GOOS Regional Alliance for the Mediterran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04920" y="2054160"/>
            <a:ext cx="8001000" cy="1555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-76320" y="1142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Comic Sans MS"/>
              </a:rPr>
              <a:t>M</a:t>
            </a: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ission of GR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76320" y="12189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Targets of GR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-360" y="2514600"/>
            <a:ext cx="9448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buClr>
                <a:srgbClr val="009999"/>
              </a:buClr>
              <a:buSzPct val="150000"/>
              <a:buFont typeface="Arial Unicode MS"/>
              <a:buChar char="⑉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Cooperation globally between G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buClr>
                <a:srgbClr val="009999"/>
              </a:buClr>
              <a:buSzPct val="150000"/>
              <a:buFont typeface="Arial Unicode MS"/>
              <a:buChar char="⑉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Assess present situation, identify key issue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needs and assets to address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buClr>
                <a:srgbClr val="009999"/>
              </a:buClr>
              <a:buSzPct val="150000"/>
              <a:buFont typeface="Arial Unicode MS"/>
              <a:buChar char="⑉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Empower the GOOS reg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buClr>
                <a:srgbClr val="009999"/>
              </a:buClr>
              <a:buSzPct val="150000"/>
              <a:buFont typeface="Arial Unicode MS"/>
              <a:buChar char="⑉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Define a common regional strategy for GO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4920" y="2130480"/>
            <a:ext cx="8001000" cy="155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6320" y="76320"/>
            <a:ext cx="705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66"/>
                </a:solidFill>
                <a:latin typeface="Verdana"/>
              </a:rPr>
              <a:t>MedGOOS</a:t>
            </a:r>
            <a:br>
              <a:rPr sz="2800"/>
            </a:br>
            <a:r>
              <a:rPr b="1" i="1" lang="en-GB" sz="1900" spc="-1" strike="noStrike">
                <a:solidFill>
                  <a:srgbClr val="ffcc66"/>
                </a:solidFill>
                <a:latin typeface="Verdana"/>
              </a:rPr>
              <a:t>GOOS Regional Alliance for the Mediterran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>
            <a:lum bright="22000"/>
          </a:blip>
          <a:stretch/>
        </p:blipFill>
        <p:spPr>
          <a:xfrm>
            <a:off x="0" y="2133720"/>
            <a:ext cx="9144000" cy="47019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960" y="1066320"/>
            <a:ext cx="5181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Challeng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-533880" y="228600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buClr>
                <a:srgbClr val="009999"/>
              </a:buClr>
              <a:buSzPct val="150000"/>
              <a:buFont typeface="Arial Unicode MS"/>
              <a:buChar char="⑉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Across scientific disciplines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consider the ecosystem as a wh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buClr>
                <a:srgbClr val="009999"/>
              </a:buClr>
              <a:buSzPct val="150000"/>
              <a:buFont typeface="Arial Unicode MS"/>
              <a:buChar char="⑉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…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Across space / temporal scales to integrate and link global / regional / coastal doma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buClr>
                <a:srgbClr val="009999"/>
              </a:buClr>
              <a:buSzPct val="150000"/>
              <a:buFont typeface="Arial Unicode MS"/>
              <a:buChar char="⑉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Across countries to build consensus, cooperation, synergies and sharing of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buClr>
                <a:srgbClr val="009999"/>
              </a:buClr>
              <a:buSzPct val="150000"/>
              <a:buFont typeface="Arial Unicode MS"/>
              <a:buChar char="⑉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Across national sectors for cross-cutting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buClr>
                <a:srgbClr val="009999"/>
              </a:buClr>
              <a:buSzPct val="150000"/>
              <a:buFont typeface="Arial Unicode MS"/>
              <a:buChar char="⑉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Across user groups to optimise benefits, cost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effectiveness and provision of useful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04920" y="2054160"/>
            <a:ext cx="8001000" cy="155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6320" y="76320"/>
            <a:ext cx="705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66"/>
                </a:solidFill>
                <a:latin typeface="Verdana"/>
              </a:rPr>
              <a:t>MedGOOS</a:t>
            </a:r>
            <a:br>
              <a:rPr sz="2800"/>
            </a:br>
            <a:r>
              <a:rPr b="1" i="1" lang="en-GB" sz="1900" spc="-1" strike="noStrike">
                <a:solidFill>
                  <a:srgbClr val="ffcc66"/>
                </a:solidFill>
                <a:latin typeface="Verdana"/>
              </a:rPr>
              <a:t>GOOS Regional Alliance for the Mediterran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39640" y="2286000"/>
            <a:ext cx="8001000" cy="1555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85800" y="1568520"/>
            <a:ext cx="7315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66"/>
                </a:solidFill>
                <a:latin typeface="Comic Sans MS"/>
              </a:rPr>
              <a:t>Med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GOOS cont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876920" y="3200400"/>
            <a:ext cx="4114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do Dra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dGOOS Executive Secre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MA Asst. Coord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OI – Malta Operational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iversity of Malta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MA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aldo.drago@um.edu.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l/Fax : +356 21440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124080"/>
            <a:ext cx="518148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ilvana Valle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-GOOS and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MedGOOS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MAMA Coord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N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&amp; IA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tituto per l’Ambiente Marino e Costiero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vallerga@nameserver.ge.cnr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Tel: +39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335 303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Fax: +39 0783 2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320" y="76320"/>
            <a:ext cx="705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Verdana"/>
              </a:rPr>
              <a:t>MedGOOS</a:t>
            </a:r>
            <a:br>
              <a:rPr sz="2800"/>
            </a:br>
            <a:r>
              <a:rPr b="1" i="1" lang="en-GB" sz="1900" spc="-1" strike="noStrike">
                <a:solidFill>
                  <a:srgbClr val="ffcc00"/>
                </a:solidFill>
                <a:latin typeface="Verdana"/>
              </a:rPr>
              <a:t>GOOS Regional Alliance for the Mediterran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76320"/>
            <a:ext cx="705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Verdana"/>
              </a:rPr>
              <a:t>MedGOOS</a:t>
            </a:r>
            <a:br>
              <a:rPr sz="2800"/>
            </a:br>
            <a:r>
              <a:rPr b="1" i="1" lang="en-GB" sz="1900" spc="-1" strike="noStrike">
                <a:solidFill>
                  <a:srgbClr val="ffcc00"/>
                </a:solidFill>
                <a:latin typeface="Verdana"/>
              </a:rPr>
              <a:t>GOOS Regional Alliance for the Mediterran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7239240" cy="46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320" y="76320"/>
            <a:ext cx="705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Verdana"/>
              </a:rPr>
              <a:t>MedGOOS</a:t>
            </a:r>
            <a:br>
              <a:rPr sz="2800"/>
            </a:br>
            <a:r>
              <a:rPr b="1" i="1" lang="en-GB" sz="1900" spc="-1" strike="noStrike">
                <a:solidFill>
                  <a:srgbClr val="ffcc00"/>
                </a:solidFill>
                <a:latin typeface="Verdana"/>
              </a:rPr>
              <a:t>GOOS Regional Alliance for the Mediterran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516040"/>
            <a:ext cx="914400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9999"/>
              </a:buClr>
              <a:buSzPct val="150000"/>
              <a:buFont typeface="Arial Unicode MS"/>
              <a:buChar char="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</a:rPr>
              <a:t>Basing policy formulation and sound management on 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9999"/>
              </a:buClr>
              <a:buSzPct val="150000"/>
              <a:buFont typeface="Arial Unicode MS"/>
              <a:buChar char="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9999"/>
              </a:buClr>
              <a:buSzPct val="150000"/>
              <a:buFont typeface="Arial Unicode MS"/>
              <a:buChar char="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</a:rPr>
              <a:t>Compliance to conventions / direc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9999"/>
              </a:buClr>
              <a:buSzPct val="150000"/>
              <a:buFont typeface="Arial Unicode MS"/>
              <a:buChar char="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9999"/>
              </a:buClr>
              <a:buSzPct val="150000"/>
              <a:buFont typeface="Arial Unicode MS"/>
              <a:buChar char="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</a:rPr>
              <a:t>Monitoring the health of the coastal sea  and safeguarding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9999"/>
              </a:buClr>
              <a:buSzPct val="150000"/>
              <a:buFont typeface="Arial Unicode MS"/>
              <a:buChar char="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9999"/>
              </a:buClr>
              <a:buSzPct val="150000"/>
              <a:buFont typeface="Arial Unicode MS"/>
              <a:buChar char="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</a:rPr>
              <a:t>Protection from disasters/haz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9999"/>
              </a:buClr>
              <a:buSzPct val="150000"/>
              <a:buFont typeface="Arial Unicode MS"/>
              <a:buChar char="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9999"/>
              </a:buClr>
              <a:buSzPct val="150000"/>
              <a:buFont typeface="Arial Unicode MS"/>
              <a:buChar char="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</a:rPr>
              <a:t>Supporting marine saf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9999"/>
              </a:buClr>
              <a:buSzPct val="150000"/>
              <a:buFont typeface="Arial Unicode MS"/>
              <a:buChar char="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9999"/>
              </a:buClr>
              <a:buSzPct val="150000"/>
              <a:buFont typeface="Arial Unicode MS"/>
              <a:buChar char="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</a:rPr>
              <a:t>Supporting marine industries by added-value products and specialised serv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95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…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Why a marine obser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and forecasting 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3520" y="2435400"/>
            <a:ext cx="8001000" cy="15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1760" y="1447560"/>
            <a:ext cx="8921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Factors for establishing a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marine observing and forecasting system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4572000"/>
            <a:ext cx="28195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p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 institu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8001000" cy="155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320" y="76320"/>
            <a:ext cx="705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Verdana"/>
              </a:rPr>
              <a:t>MedGOOS</a:t>
            </a:r>
            <a:br>
              <a:rPr sz="2800"/>
            </a:br>
            <a:r>
              <a:rPr b="1" i="1" lang="en-GB" sz="1900" spc="-1" strike="noStrike">
                <a:solidFill>
                  <a:srgbClr val="ffcc00"/>
                </a:solidFill>
                <a:latin typeface="Verdana"/>
              </a:rPr>
              <a:t>GOOS Regional Alliance for the Mediterran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590920" y="3200400"/>
            <a:ext cx="3276000" cy="2437920"/>
            <a:chOff x="2590920" y="3200400"/>
            <a:chExt cx="3276000" cy="2437920"/>
          </a:xfrm>
        </p:grpSpPr>
        <p:sp>
          <p:nvSpPr>
            <p:cNvPr id="57" name="Puzzle3"/>
            <p:cNvSpPr/>
            <p:nvPr/>
          </p:nvSpPr>
          <p:spPr>
            <a:xfrm>
              <a:off x="4186440" y="3200400"/>
              <a:ext cx="1287720" cy="12956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Puzzle2"/>
            <p:cNvSpPr/>
            <p:nvPr/>
          </p:nvSpPr>
          <p:spPr>
            <a:xfrm>
              <a:off x="3811680" y="4144320"/>
              <a:ext cx="2055240" cy="118008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Puzzle4"/>
            <p:cNvSpPr/>
            <p:nvPr/>
          </p:nvSpPr>
          <p:spPr>
            <a:xfrm>
              <a:off x="3016080" y="4129560"/>
              <a:ext cx="1239120" cy="15087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Puzzle1"/>
            <p:cNvSpPr/>
            <p:nvPr/>
          </p:nvSpPr>
          <p:spPr>
            <a:xfrm>
              <a:off x="2590920" y="3592440"/>
              <a:ext cx="2081160" cy="89928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5638680" y="3200400"/>
            <a:ext cx="3124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data suppliers to end-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4495680"/>
            <a:ext cx="3733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orities of coastal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312408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ce 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R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5780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Comic Sans MS"/>
              </a:rPr>
              <a:t>M</a:t>
            </a: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ore than science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11280" y="2205000"/>
            <a:ext cx="7921440" cy="396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ographic coverage and integration of observ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annel and synergise effo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-sharing and co-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haring of expertise and transfer of knowledg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wareness and building consens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volve all stakehol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nk data suppliers to end-u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39640" y="1989000"/>
            <a:ext cx="8001000" cy="155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6320" y="76320"/>
            <a:ext cx="705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66"/>
                </a:solidFill>
                <a:latin typeface="Verdana"/>
              </a:rPr>
              <a:t>MedGOOS</a:t>
            </a:r>
            <a:br>
              <a:rPr sz="2800"/>
            </a:br>
            <a:r>
              <a:rPr b="1" i="1" lang="en-GB" sz="1900" spc="-1" strike="noStrike">
                <a:solidFill>
                  <a:srgbClr val="ffcc66"/>
                </a:solidFill>
                <a:latin typeface="Verdana"/>
              </a:rPr>
              <a:t>GOOS Regional Alliance for the Mediterran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…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verarching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3886200"/>
            <a:ext cx="828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European excellence in marine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Mediterranean policy of the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Project into the future Mediterrane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Optimising exploitation and management                               of marine space an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Keeping up competitiveness of                                         marine industries / economic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33520" y="2054160"/>
            <a:ext cx="8001000" cy="155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320" y="76320"/>
            <a:ext cx="705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Verdana"/>
              </a:rPr>
              <a:t>MedGOOS</a:t>
            </a:r>
            <a:br>
              <a:rPr sz="2800"/>
            </a:br>
            <a:r>
              <a:rPr b="1" i="1" lang="en-GB" sz="1900" spc="-1" strike="noStrike">
                <a:solidFill>
                  <a:srgbClr val="ffcc00"/>
                </a:solidFill>
                <a:latin typeface="Verdana"/>
              </a:rPr>
              <a:t>GOOS Regional Alliance for the Mediterran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Med</a:t>
            </a:r>
            <a:r>
              <a:rPr b="1" lang="en-GB" sz="4000" spc="-1" strike="noStrike">
                <a:solidFill>
                  <a:srgbClr val="000066"/>
                </a:solidFill>
                <a:latin typeface="Comic Sans MS"/>
              </a:rPr>
              <a:t>iterranean</a:t>
            </a:r>
            <a:r>
              <a:rPr b="1" lang="en-GB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G</a:t>
            </a:r>
            <a:r>
              <a:rPr b="1" lang="en-GB" sz="4000" spc="-1" strike="noStrike">
                <a:solidFill>
                  <a:srgbClr val="000066"/>
                </a:solidFill>
                <a:latin typeface="Comic Sans MS"/>
              </a:rPr>
              <a:t>lobal</a:t>
            </a:r>
            <a:r>
              <a:rPr b="1" lang="en-GB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1" lang="en-GB" sz="4000" spc="-1" strike="noStrike">
                <a:solidFill>
                  <a:srgbClr val="000066"/>
                </a:solidFill>
                <a:latin typeface="Comic Sans MS"/>
              </a:rPr>
              <a:t>cean</a:t>
            </a:r>
            <a:r>
              <a:rPr b="1" lang="en-GB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1" lang="en-GB" sz="4000" spc="-1" strike="noStrike">
                <a:solidFill>
                  <a:srgbClr val="000066"/>
                </a:solidFill>
                <a:latin typeface="Comic Sans MS"/>
              </a:rPr>
              <a:t>bserving</a:t>
            </a:r>
            <a:r>
              <a:rPr b="1" lang="en-GB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1" lang="en-GB" sz="4000" spc="-1" strike="noStrike">
                <a:solidFill>
                  <a:srgbClr val="000066"/>
                </a:solidFill>
                <a:latin typeface="Comic Sans MS"/>
              </a:rPr>
              <a:t>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3499920"/>
            <a:ext cx="7631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MedGOOS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s an informal association founded under the auspices of the UNESCO/Intergovernmental Oceanographic Commission (IOC) to provide a concerted approach to the planning and implementation of an operational ocean monitoring system for the benefit of all coastal states in the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9640" y="2882880"/>
            <a:ext cx="8001000" cy="155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6320" y="76320"/>
            <a:ext cx="705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Verdana"/>
              </a:rPr>
              <a:t>MedGOOS</a:t>
            </a:r>
            <a:br>
              <a:rPr sz="2800"/>
            </a:br>
            <a:r>
              <a:rPr b="1" i="1" lang="en-GB" sz="1900" spc="-1" strike="noStrike">
                <a:solidFill>
                  <a:srgbClr val="ffcc00"/>
                </a:solidFill>
                <a:latin typeface="Verdana"/>
              </a:rPr>
              <a:t>GOOS Regional Alliance for the Mediterran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1133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rief history of MedGOOS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105000"/>
            <a:ext cx="87138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8080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tarted within the EuroGOOS Mediterranean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8080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8080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OC-UNESCO initiates MedGOOS as a regional GOOS activity (Malta, 19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8080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8080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9 Institutions from 16 countries signed the MoU (since Rome, March 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8080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8080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vast majority of Mediterranean countries approve the strategy (Rabat, 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8080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8080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TD projects commenced under FPIV and continued under FPV and FP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8080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8080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AMA – th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tic network for operational oceanography in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(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33520" y="1844640"/>
            <a:ext cx="8001000" cy="155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320" y="76320"/>
            <a:ext cx="705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Verdana"/>
              </a:rPr>
              <a:t>MedGOOS</a:t>
            </a:r>
            <a:br>
              <a:rPr sz="2800"/>
            </a:br>
            <a:r>
              <a:rPr b="1" i="1" lang="en-GB" sz="1900" spc="-1" strike="noStrike">
                <a:solidFill>
                  <a:srgbClr val="ffcc00"/>
                </a:solidFill>
                <a:latin typeface="Verdana"/>
              </a:rPr>
              <a:t>GOOS Regional Alliance for the Mediterran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14:53Z</dcterms:created>
  <dc:creator>Aldo Drago</dc:creator>
  <dc:description/>
  <dc:language>en-US</dc:language>
  <cp:lastModifiedBy>Martin Galea De Giovanni</cp:lastModifiedBy>
  <dcterms:modified xsi:type="dcterms:W3CDTF">2004-06-21T07:07:12Z</dcterms:modified>
  <cp:revision>147</cp:revision>
  <dc:subject/>
  <dc:title>Slide 1</dc:title>
</cp:coreProperties>
</file>